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CB4-6CEE-4172-A97B-2D21B222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B92-B7B4-4B6F-9BF2-AAD3A4DB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1C4-3F53-40A9-BC98-06F175A4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CEE-0CAF-47CB-AC4F-7411C364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9D6-B723-4737-9F48-181A8C04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6AE-A30D-4407-9F37-222D58F9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871-7BD7-4A8C-BBD5-7E4C36C7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879-FCEB-4B7D-8D67-9B4B530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E76-9BED-4110-B924-2E651007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600-0BF4-45C2-86F3-0A1AFBA9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704-EE93-4DCA-9FFC-60C38B2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EED-4002-4731-9F4A-3608F64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55A0-7D3F-43D0-AEB4-513CDC937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hyperlink" Target="http://www.freeplaymusic.com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wakefield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152280"/>
            <a:ext cx="8458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ocolate Chi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okies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4875120" y="5407200"/>
            <a:ext cx="3897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667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le Wa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5/2011 9:06:14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4756320"/>
            <a:ext cx="4495680" cy="2101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42670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. Ruth Wake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4419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my Angels 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724280" y="5562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56647E-006 C 0.03299 0.04324 0.44601 -0.06682 0.50625 -0.1711 C 0.56632 -0.27537 0.44149 -0.60347 0.36024 -0.62566 C 0.27899 -0.64786 -0.01129 -0.39098 0.01892 -0.30428 C 0.04913 -0.21757 0.49479 -0.05665 0.54115 -0.10566 C 0.5875 -0.15468 0.36319 -0.58867 0.2967 -0.59815 C 0.23003 -0.60763 0.09705 -0.23352 0.14115 -0.16277 C 0.18524 -0.09202 0.53194 -0.09665 0.5618 -0.17318 C 0.59167 -0.24971 0.39167 -0.62358 0.32049 -0.6215 C 0.24913 -0.61942 0.08837 -0.23006 0.13333 -0.16069 C 0.1783 -0.09133 0.56267 -0.10428 0.59045 -0.20508 C 0.61823 -0.30589 0.37969 -0.79191 0.3 -0.76508 C 0.22031 -0.73826 0.05139 -0.1378 0.11267 -0.04439 C 0.17396 0.04902 0.62257 -0.09133 0.66823 -0.20508 C 0.71389 -0.31884 0.51441 -0.72439 0.38715 -0.72717 C 0.2599 -0.72994 -0.1342 -0.3274 -0.09531 -0.22196 C -0.05642 -0.11653 0.5533 -0.06011 0.62049 -0.09503 C 0.68767 -0.12994 0.41076 -0.4467 0.30781 -0.43121 C 0.20486 -0.41572 -0.03299 -0.04323 4.16667E-006 -4.56647E-006 Z">
                                      <p:cBhvr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Wakefield"/>
          <p:cNvPicPr/>
          <p:nvPr/>
        </p:nvPicPr>
        <p:blipFill>
          <a:blip r:embed="rId1"/>
          <a:srcRect l="9093" t="5556" r="2268" b="7414"/>
          <a:stretch/>
        </p:blipFill>
        <p:spPr>
          <a:xfrm>
            <a:off x="0" y="0"/>
            <a:ext cx="297180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0"/>
            <a:ext cx="4952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th Wakefiel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19, 2011 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81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h Wakefield invented Chocolate chip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10000" t="10128" r="14291" b="8859"/>
          <a:stretch/>
        </p:blipFill>
        <p:spPr>
          <a:xfrm>
            <a:off x="5105520" y="320040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-4133" t="-4092" r="-3604" b="5566"/>
          <a:stretch/>
        </p:blipFill>
        <p:spPr>
          <a:xfrm>
            <a:off x="380880" y="4343400"/>
            <a:ext cx="350532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hocolate Chip Cook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ocolate Chip Cookie was made by acc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created with Nestle Chocolate at first ,but through out the years people have tried new and different types of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who expected the chocolate to melt in the oven, realized when it was done that the Chocolate held it’s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then finally realized she made something people would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many did she had to bake many, many cookies to serve to her gue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’s Cookies attracted so many people from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ookies were very popular and still are incred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G. Wake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h owned a lodge for travelers ,and cooked homemade meals and t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dge was a toll house once until the Wakefield’s re-built it into an i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ly Ruth passed away in 1977 ,But people still make and love her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56386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4:39Z</dcterms:created>
  <dc:creator>install</dc:creator>
  <dc:description/>
  <dc:language>en-US</dc:language>
  <cp:lastModifiedBy>install</cp:lastModifiedBy>
  <dcterms:modified xsi:type="dcterms:W3CDTF">2011-09-26T13:56:34Z</dcterms:modified>
  <cp:revision>14</cp:revision>
  <dc:subject/>
  <dc:title>Slide 1</dc:title>
</cp:coreProperties>
</file>